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CD2-EC41-4AB4-A90C-5C8C2343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68A-2404-45B8-8E48-92F717EF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D34-280C-418F-B334-0AFEF1C7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200-24EB-4BC8-B586-CFFE4514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35D-AE11-48F2-8DC6-FBD402D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21A-1CF0-4BB6-8C44-7A6C4AA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780-2ED2-4854-8B2D-175710A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9B3-ADDB-422C-8C6F-DC84DF4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4BD-6906-4C5D-957D-162E5D82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5D8-05F9-4652-9CA6-202DB91B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825-0C7C-4492-BD71-343F3B30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832-72F0-41B9-8393-6D3DE79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56016728-395A-46F8-BEAD-C0E84F2060CF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JRA1 Update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8 January Board Meee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,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JRA Deliverabl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312920"/>
          <a:ext cx="8229600" cy="4746600"/>
        </p:xfrm>
        <a:graphic>
          <a:graphicData uri="http://schemas.openxmlformats.org/drawingml/2006/table">
            <a:tbl>
              <a:tblPr/>
              <a:tblGrid>
                <a:gridCol w="5022720"/>
                <a:gridCol w="2127240"/>
                <a:gridCol w="1079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rim Protocols performance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relator design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correlator c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data produ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verall design 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for workflow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FAR station interface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sualization 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a acquisition interface 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for correlation on clus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oftware cluster corre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fringes software corre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70D-80F9-411E-B878-7064654959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Manpow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on and Richard have left the team at JBO (though both still involved with EXP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contract for Jonathan expires Nov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5 FTE in SA1 available for PDRA to work on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4 Outreach work completed, using 0.07 of 0.5  FT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on boards (VSI interfaces) expected summ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 transferring 0.43 FTE from NA4 to 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 get a 6 month no cost extension we will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ep Jonathan on the project as a PDRA until the end of Jul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ow sufficient time for testing the input and output to the e-MERLIN correlator in eVLBI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ep on Stephen for a month or so this summer to help run the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13A-B3FE-4D50-9FF8-A8C4F1B402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rtner Log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 edit this and date:  View -&gt; Hea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CA7-CBAC-4655-BD3F-EEE3CCED21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ear month d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8-01-30T10:37:08Z</dcterms:modified>
  <cp:revision>43</cp:revision>
  <dc:subject/>
  <dc:title>Slide 1</dc:title>
</cp:coreProperties>
</file>